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D95-64BA-4586-935F-960154C8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D38-251E-4C2B-A716-4F5D27D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CF5-98FD-43A9-A834-41942749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C38-5322-4092-81DE-7D8F79A5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BF3-0B0E-45AE-B12B-9AE4F80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778-C294-41EA-8617-35D19011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D02-0BA6-4302-9565-A8108B2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69D-135A-43F5-8081-65906667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001-A26B-4072-93E5-2BC6181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6AD-46BF-40D7-878A-A939640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ED2-4DEB-4980-B5E4-3DF4892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9E0-B3D7-432F-8C8C-CC07D2E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139-AA6F-4C7F-B990-AB0DAE25B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tertainment.howstuffworks.com/arts/artwork/claude-monet-paintings-1873-1878.htm" TargetMode="External"/><Relationship Id="rId2" Type="http://schemas.openxmlformats.org/officeDocument/2006/relationships/hyperlink" Target="http://en.wikipedia.org/wiki/Claude_Monet" TargetMode="External"/><Relationship Id="rId3" Type="http://schemas.openxmlformats.org/officeDocument/2006/relationships/hyperlink" Target="http://en.wikipedia.org/wiki/File:Claude_Monet_011.jpg" TargetMode="External"/><Relationship Id="rId4" Type="http://schemas.openxmlformats.org/officeDocument/2006/relationships/hyperlink" Target="http://en.wikipedia.org/wiki/File:Claude_Monet_-_Camille_Monet_sur_son_lit_de_mort.JPG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ression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deline R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Impressionist Mov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essionism was a 19th century art movem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small, thin visible brush strokes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ginated in Fr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inent in the 1870s and 1880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first, people didn't like Impressionism, but later they came to accept it as a great art for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aude Mon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920" y="1707840"/>
            <a:ext cx="58453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From 1840-19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Oscar-Claude and his family called him Osca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tudied under Charles Gley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rried Camille Doncieux in 1870 before the franc-Prussian wa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lle died of tuberculosis in 1879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rried his second wife,Alice Hoschedé, in 18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d of lung cancer and is buried in the Giverny Cemetery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97760" y="1930320"/>
            <a:ext cx="388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man With a Paraso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69320" y="1117440"/>
            <a:ext cx="1781280" cy="59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4440" y="1282680"/>
            <a:ext cx="45036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inted in 1875 by Claude Mone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riginal is in the 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onal Gallery of Art , in Washington, D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75040" y="1015920"/>
            <a:ext cx="51087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mille Monet on her Deathb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2640" y="1829880"/>
            <a:ext cx="453204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ude Monet's wife Camille died in 1879 of tuberculosi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painted this to honor her while she was dying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painting is currently in Musee D'Orsay in Par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94360" y="1828800"/>
            <a:ext cx="34354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Cliffs at Etreta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1833480"/>
            <a:ext cx="3725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was painted in 188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currently in the Clark Art Institute, Williamstown, Massachuset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60069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ater Lil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000" y="1833480"/>
            <a:ext cx="4633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painted it from a lake where he liv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was painted in 1906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in the Art Institute of Chicag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5278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Poppy Field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30680" y="304560"/>
            <a:ext cx="35308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was painted in 1873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was painted near Argenteui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tertainment.howstuffworks.com/arts/artwork/claude-monet-paintings-1873-1878.htm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Claude_Mone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n.wikipedia.org/wiki/File:Claude_Monet_011.jpg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en.wikipedia.org/wiki/File:Claude_Monet_-_Camille_Monet_sur_son_lit_de_mort.JPG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en.wikipedia.org/wiki/File:Claude_Monet_The_Cliffs_at_Etretat.jpg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en.wikipedia.org/wiki/File:Claude_Monet_-_Water_Lilies_-_1906,_Ryerson.jp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www.artcyclopedia.com/artists/monet_claude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en.wikipedia.org/wiki/Impressionis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mith</cp:lastModifiedBy>
  <dcterms:modified xsi:type="dcterms:W3CDTF">2011-10-05T01:36:53Z</dcterms:modified>
  <cp:revision>1</cp:revision>
  <dc:subject/>
  <dc:title>PowerPoint Presentation</dc:title>
</cp:coreProperties>
</file>